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45C-70EC-408C-89C2-5E362C8A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29F-16C0-4DEB-BC7E-06694F8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BCD-10BE-407D-813E-2EE6F902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EA3-22DA-4C02-A5DF-F2BF29DC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A493-A47E-402A-B3FC-7B3E9CA5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AF49-88A2-4A3C-A4EB-5668AF06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EA53-1B79-4557-8EE0-3307ACAE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9DF7-DFD0-4C0D-B999-4BB3967D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F223-354A-48FE-A71D-2B0AA545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F829-5674-49C0-93E8-05DC0009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2918-1228-4DDD-B2C4-FC327AF8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EEE-AAED-45D6-B5D0-B5E65CC5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82CD-E0E8-4032-B544-1905B6C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E2EB-4F8D-4DB5-88F2-B6F0894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E037-2991-438E-9B24-4105809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BCEF-3337-4B61-947E-C85504AC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FD5D-42AA-4FCA-B3C9-5A91636D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17D-0050-4916-97A2-A572AA0E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419-65E9-4235-A169-86BFDEB2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60D-A8EC-4FCC-B7DF-E7DB4AA5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F20-0EC4-4859-8F05-4A294830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8D9-DD98-4AE3-9C9E-620F10C6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374-47E7-47C2-8052-C51B5FFA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7AE-2A6D-49A6-B2BD-F863D54E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8EB6-09FF-4712-ACD5-DECAEB2998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C9B-827B-4D72-A84B-3829D4B0E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VIAŢA SPIRITUALĂ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52280" y="228600"/>
            <a:ext cx="838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4</cp:lastModifiedBy>
  <dcterms:modified xsi:type="dcterms:W3CDTF">2012-06-19T10:45:0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